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08E0F-515E-4E50-9F99-29ACAA2D7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44F5D-0BE1-4B3A-A1B7-910606D8F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B744E-C5BF-4ED6-930E-222AF0913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85DC7-76F6-40F6-8284-BB3861414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0B79F-DCF4-4593-B67F-81C1EDAD7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777D4-C685-4AD5-9E19-90E9EB663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9324B-5F28-4ADE-9282-55D80C089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E8FF9-135A-45B1-ADE7-BCACEAE58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52446-85DD-41DF-901A-64FC229DB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C29BD-806F-4F71-A20C-57AACFED1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138C9-28DA-454F-87E0-91AC2D230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6C73F-A2A7-4D85-AEA5-090196BCD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D2579-E932-4E57-A272-9049267112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dom, War, American Dream Proje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Fisher Midge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Freedom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dom is the ability to act, think, and speak as you would want to everyday. Your freedom is something you have in life, unless you truly abuse the privile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ometimes have to go through war to gain your freedom, and later this can become the American Dre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ample of a text that deals with our freedom is Martin Luther King’s “I Have a Dream” speech, which wanted to gain African Americans equality and freedo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rican Dream</a:t>
            </a: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erican Dream is something that we should all enjoy and treasure. We live in this great country with laws to protect us, a good government, and everyday freedoms that other countries cannot enjo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erican Dream is spurred by the need for our freedom. Sometimes we have to go through war to keep the American Drea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ample text that deals with the American Dream is JFK’s “Inaugural Address”. It tells that it is our responsibility to protect the American Dream, whether we should go through war or hardships. Also that it is mainly the American people’s responsibility in keeping the Dream ali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ar occurs it is generally a bad time for the country. There is lives lost,  destruction, and hard times in the home fro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go to war it is usually for your freedom and the want to gain the American Dream in the fut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ample text that deals with war is “I Will Fight No More Forever”. It tells that King Joseph doesn’t want to fight anymore with the Americans. He is tired of the fighting, so he wrote this letter to the Americans. This shows that war is necessary to gain what you want and also it can cause you to lose your freedo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ations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nedy, John F. "John F. Kennedy Inaugural Address." </a:t>
            </a:r>
            <a:r>
              <a:rPr b="0" i="1" lang="en-US" sz="3200" spc="-1" strike="noStrike">
                <a:solidFill>
                  <a:srgbClr val="000000"/>
                </a:solidFill>
                <a:latin typeface="Arial"/>
              </a:rPr>
              <a:t>Bartleby.com</a:t>
            </a:r>
            <a:r>
              <a:rPr b="0" lang="en-US" sz="3200" spc="-1" strike="noStrike">
                <a:solidFill>
                  <a:srgbClr val="000000"/>
                </a:solidFill>
                <a:latin typeface="Arial"/>
              </a:rPr>
              <a:t>. Web. 15 May 2012. &lt;http://www.bartleby.com/124/pres56.html&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5T14:00:18Z</dcterms:created>
  <dc:creator>dcsuser</dc:creator>
  <dc:description/>
  <dc:language>en-US</dc:language>
  <cp:lastModifiedBy>dcsuser</cp:lastModifiedBy>
  <dcterms:modified xsi:type="dcterms:W3CDTF">2012-05-15T14:33:28Z</dcterms:modified>
  <cp:revision>2</cp:revision>
  <dc:subject/>
  <dc:title>Freedom, War, American Dream Project</dc:title>
</cp:coreProperties>
</file>